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889-74BE-43A3-A392-57EB29F5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70B-1639-4061-974F-EDBACA52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EE1-F930-47F3-9DAA-ECAE6CC8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161-64D5-4E28-AEAB-C73ED198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A7E-5835-4042-B1BB-6BB3A14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2AF-4D25-4021-93F0-FD7DB9B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B50-3F6E-444E-97AF-E6F3ABD4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EAE-310D-4027-88AD-3AC68326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B6F-C02D-4556-AC96-5AEB5D93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B47-2DDE-4BA4-A341-CDA5F14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B97-0C49-4122-AEC4-28509A9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09C-7A73-4A3F-962D-3FDF8A02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3D63-445A-4DA6-9252-50FD4A2FF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Right Triangles and other polyg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TH 60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13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assifying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ides 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191120" cy="303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32004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Right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e Pythagorean theore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3408480"/>
            <a:ext cx="4724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right triangl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special right triang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5-45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60-9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0292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45-45-90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legs are equ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at makes this what kind of triangle, if you are categorizing by sides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egs each were one inch, how long would the hypotenuse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ypotenuse is equal to the leg tim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√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15000" y="2743200"/>
            <a:ext cx="276552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5715000" y="2751120"/>
          <a:ext cx="2743200" cy="269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2751120"/>
                    <a:ext cx="274320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30-60-90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of these together makes an equilateral triangle.  (what does that mean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lationship between the parts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Putting triangles together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these o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581" t="0" r="1183" b="12282"/>
          <a:stretch/>
        </p:blipFill>
        <p:spPr>
          <a:xfrm>
            <a:off x="2135160" y="251460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0" t="1182" r="12287" b="10600"/>
          <a:stretch/>
        </p:blipFill>
        <p:spPr>
          <a:xfrm>
            <a:off x="380880" y="251460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1183" t="12282" r="10581" b="0"/>
          <a:stretch/>
        </p:blipFill>
        <p:spPr>
          <a:xfrm>
            <a:off x="380880" y="4267080"/>
            <a:ext cx="1754280" cy="175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12287" t="10600" r="0" b="1182"/>
          <a:stretch/>
        </p:blipFill>
        <p:spPr>
          <a:xfrm>
            <a:off x="2133720" y="4267080"/>
            <a:ext cx="1753920" cy="1754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7151" t="0" r="0" b="17864"/>
          <a:stretch/>
        </p:blipFill>
        <p:spPr>
          <a:xfrm>
            <a:off x="5943600" y="2133720"/>
            <a:ext cx="29718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rcRect l="0" t="17864" r="7151" b="0"/>
          <a:stretch/>
        </p:blipFill>
        <p:spPr>
          <a:xfrm>
            <a:off x="5943600" y="3886200"/>
            <a:ext cx="2971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Your projec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hapes can you create using triang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you make a squ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ctang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ent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exag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el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what you know about triangles to find the area of your new shap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4:37:27Z</dcterms:created>
  <dc:creator>nuhs</dc:creator>
  <dc:description/>
  <dc:language>en-US</dc:language>
  <cp:lastModifiedBy>nuhs</cp:lastModifiedBy>
  <dcterms:modified xsi:type="dcterms:W3CDTF">2007-09-13T15:53:34Z</dcterms:modified>
  <cp:revision>4</cp:revision>
  <dc:subject/>
  <dc:title>Special Right Triangles and other polygons</dc:title>
</cp:coreProperties>
</file>